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7FC-31CA-4ADC-941E-33256A54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FBF-A1E6-434B-8B23-64764859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720-8972-4035-B52F-D4DEDA18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BEB-C710-4FB4-8AA2-9A98C4A3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5B2-BB97-44C4-A0B5-A83CD637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070-C998-4053-AACC-DDFB5BC0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216-E91E-48BF-A557-E5CD900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CF6-E0B9-4A07-9023-24BA6732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EB9-C17B-4CF1-9F3E-C7C18A4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0A7-4E05-4B31-8028-CC848D25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265-C0D5-450A-9463-394F61FA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C4E-35F0-4A04-8FA3-1CD147A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574E-73A3-4725-B196-B65598E8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1219320"/>
            <a:ext cx="16002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57913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429000" y="1523880"/>
            <a:ext cx="2209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14600" y="1905120"/>
            <a:ext cx="4800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514600" y="2286000"/>
            <a:ext cx="396252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81080" y="2209680"/>
            <a:ext cx="49532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62520" y="2286000"/>
            <a:ext cx="1752480" cy="23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62320" y="2743200"/>
            <a:ext cx="4343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3800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419720" y="1905120"/>
            <a:ext cx="54756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4:13:09Z</dcterms:created>
  <dc:creator>Topeka Public Schools</dc:creator>
  <dc:description/>
  <dc:language>en-US</dc:language>
  <cp:lastModifiedBy>Topeka Public Schools</cp:lastModifiedBy>
  <dcterms:modified xsi:type="dcterms:W3CDTF">2005-09-06T14:18:59Z</dcterms:modified>
  <cp:revision>1</cp:revision>
  <dc:subject/>
  <dc:title>PowerPoint Presentation</dc:title>
</cp:coreProperties>
</file>